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84B3-923A-4739-95C5-363284A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44D9-9D50-424E-BA1C-22016150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D56D-F11A-485E-A371-A6091BA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0DC1-AA24-4F68-A9C4-C9FA727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B1BE-7B85-4ECF-A8C9-CDC7CE66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068-D38C-4C83-969F-5A7E6CF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F2F4-AB7A-49F8-AAA8-8EB1B0F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CAF-8212-4041-AFA2-B13E943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B4A-BA82-4DB3-AF3E-0823D1F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F0EF-31EB-4614-AF9A-676F2692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CA1-95ED-4D5A-AA8D-82D376C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1655-6FFD-4E07-9BE1-9170BAE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5411-29C7-492D-93B8-8B546F5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6F49-F10A-46BD-BAC2-CF79D9A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35F9-310B-4427-8884-568C930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D2F-7647-44A5-87E3-919ADC43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385-DB1E-44BC-A8AD-F7F4B8EF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D989-4E53-444D-A5E3-40746705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951C-7E45-4C9B-8D2D-8F1FC86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7ABF-9385-4638-A283-F838A31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6FE7-8BBA-43C0-86D6-9F256AE4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CB55-FCED-4EDA-B863-E8254E4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93D1-C667-496E-923E-018CB26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8F87-7236-46CA-B605-68565E9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8E0-67BD-4EAF-802A-22C3D7706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4143-DD50-4FA8-9F0F-A55FB6857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mpact of Diet on Healt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or ate mainly whole grains and vege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tein sources: whole grain wheat, cheese and eg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before harvest led to scurv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ch ate mainly me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d not eat veget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also led to Gou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ddle class had most nutritionally balanced di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e meat and dairy regularly but still ate vegetabl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asants diet more varied in England and Low Count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crop from the Americas- the pot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tained vitamin A and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uld be harvested during the win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calorie yield per acre than gr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reland first to farm them- had little l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ing of potatoes spread slow but widespread by end of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believed potatoes were not edi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0574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gardening gr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mitropical fruit seeds available in coastal 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England white bread is made for the rich instead of whole g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d little nutritional value and lacked vitam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gar consumption increased by ri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ices dropped due to slave labor in the Americ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d to more cavities and tooth deca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pillsbury_doughboy.jpg PILSBURY image by JellyLovesJelly"/>
          <p:cNvPicPr/>
          <p:nvPr/>
        </p:nvPicPr>
        <p:blipFill>
          <a:blip r:embed="rId1"/>
          <a:stretch/>
        </p:blipFill>
        <p:spPr>
          <a:xfrm>
            <a:off x="6657840" y="3200400"/>
            <a:ext cx="18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16Z</dcterms:created>
  <dc:creator>MNS</dc:creator>
  <dc:description/>
  <dc:language>en-US</dc:language>
  <cp:lastModifiedBy>MNS</cp:lastModifiedBy>
  <dcterms:modified xsi:type="dcterms:W3CDTF">2009-12-07T14:51:57Z</dcterms:modified>
  <cp:revision>6</cp:revision>
  <dc:subject/>
  <dc:title>Impact of Diet on Health</dc:title>
</cp:coreProperties>
</file>